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156A-2F5B-421B-AA1B-0F2E4042B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0E9C-3E3A-4F46-BE4B-2562F5AEE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40E5-B640-49A6-97F2-2ECC24574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713A-E028-470D-A9DC-449385FE9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DB045-9916-4068-8E38-6B7A1A3E8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E9D49-1848-4243-A6B3-F5A5B38B0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25852-69DB-4FBD-94BC-96DA3021B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2B68E-7381-4F3E-82B9-47028C7DA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BC1B8-092E-4FEC-95AB-82FC66FDC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3A58E-75C3-48E0-950A-71594B805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4AD53-07E3-4D46-8B9D-A1573BD2C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2BAE-2260-4DFC-8961-E12AEF086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57507-B3B1-42D3-AD7E-96005E890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5B84D-FDB9-4C16-B73D-532ACECA0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6C4F6-980E-420F-B304-3E00337AA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24DCE-929A-4CDD-B9CF-F4C8E2903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8AB45-F80A-41F9-BDCC-F46DA1152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706B-AADB-4706-8B92-5FBB2E9CE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EB7B-9E1A-4DF4-9945-86108ABFE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7CE4-D1EB-4973-B0B5-AE777CBDD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E27C-5E3D-4ED9-B748-7A6E9F4BD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AF33-F185-4F92-B30E-1238761D1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2A91-867D-47FE-9E32-8F965BE80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61BF-335C-4D54-9DC6-11E9DCBEB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609480" cy="48769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9E008-2CAA-48FC-B3CB-72C68314D30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115920"/>
            <a:ext cx="370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 txBox="1"/>
          <p:nvPr/>
        </p:nvSpPr>
        <p:spPr>
          <a:xfrm rot="5400000">
            <a:off x="-1981080" y="2276280"/>
            <a:ext cx="4608360" cy="287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e1"/>
                </a:solidFill>
                <a:latin typeface="Calibri"/>
              </a:rPr>
              <a:t>FIGURY GEOMETRYCZN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e1"/>
              </a:solidFill>
              <a:latin typeface="Calibri"/>
              <a:ea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48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2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3BA94-DDCA-4436-9D22-E0ED990CFF0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3995280" y="1052640"/>
            <a:ext cx="424836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Podstawową jednostką długości stosowaną w Polsce do początków XX wieku był </a:t>
            </a:r>
            <a:r>
              <a:rPr b="1" lang="pl-PL" sz="1600" spc="-1" strike="noStrike">
                <a:solidFill>
                  <a:srgbClr val="ff0000"/>
                </a:solidFill>
                <a:latin typeface="Arial"/>
              </a:rPr>
              <a:t>łokieć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 stosowany do mierzenia tekstyliów i krótszych przedmiotów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Długości łokcia były ustalane lokalnie dlatego różniły się one miedzy sobą. Na początku XVI wieku </a:t>
            </a:r>
            <a:r>
              <a:rPr b="1" lang="pl-PL" sz="1600" spc="-1" strike="noStrike">
                <a:solidFill>
                  <a:srgbClr val="3366ff"/>
                </a:solidFill>
                <a:latin typeface="Arial"/>
              </a:rPr>
              <a:t>łokieć krakowski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 był krótszy o 14 cm od </a:t>
            </a:r>
            <a:r>
              <a:rPr b="1" lang="pl-PL" sz="1600" spc="-1" strike="noStrike">
                <a:solidFill>
                  <a:srgbClr val="3366ff"/>
                </a:solidFill>
                <a:latin typeface="Arial"/>
              </a:rPr>
              <a:t>łokcia lwowskiego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Inną jednostką miary długości była </a:t>
            </a:r>
            <a:r>
              <a:rPr b="1" lang="pl-PL" sz="1600" spc="-1" strike="noStrike">
                <a:solidFill>
                  <a:srgbClr val="ff0000"/>
                </a:solidFill>
                <a:latin typeface="Arial"/>
              </a:rPr>
              <a:t>stopa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, która służyła między innymi do mierzenia odległości np. przy sadzeniu kartofli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Jednostką służącą do mierzenia głównie drewna, sieci oraz dłuższych przedmiotów był </a:t>
            </a:r>
            <a:r>
              <a:rPr b="1" lang="pl-PL" sz="1600" spc="-1" strike="noStrike">
                <a:solidFill>
                  <a:srgbClr val="ff0000"/>
                </a:solidFill>
                <a:latin typeface="Arial"/>
              </a:rPr>
              <a:t>sążeń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Obraz 12" descr="http://www.qdnet.pl/unas/nr35/miary_1.JPG"/>
          <p:cNvPicPr/>
          <p:nvPr/>
        </p:nvPicPr>
        <p:blipFill>
          <a:blip r:embed="rId1"/>
          <a:stretch/>
        </p:blipFill>
        <p:spPr>
          <a:xfrm>
            <a:off x="1835280" y="549360"/>
            <a:ext cx="900000" cy="51847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16000" y="5805360"/>
            <a:ext cx="24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Łokieć polski z 1651 rok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2068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STAROPOLSKIE JEDNOSTKI DŁUGOŚCI</a:t>
            </a:r>
            <a:endParaRPr b="0" lang="en-US" sz="3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46280" y="67644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Obraz 14" descr=""/>
          <p:cNvPicPr/>
          <p:nvPr/>
        </p:nvPicPr>
        <p:blipFill>
          <a:blip r:embed="rId1"/>
          <a:stretch/>
        </p:blipFill>
        <p:spPr>
          <a:xfrm>
            <a:off x="1150920" y="1736640"/>
            <a:ext cx="1871640" cy="1152720"/>
          </a:xfrm>
          <a:prstGeom prst="rect">
            <a:avLst/>
          </a:prstGeom>
          <a:ln w="0">
            <a:noFill/>
          </a:ln>
        </p:spPr>
      </p:pic>
      <p:pic>
        <p:nvPicPr>
          <p:cNvPr id="100" name="Obraz 16" descr=""/>
          <p:cNvPicPr/>
          <p:nvPr/>
        </p:nvPicPr>
        <p:blipFill>
          <a:blip r:embed="rId2"/>
          <a:stretch/>
        </p:blipFill>
        <p:spPr>
          <a:xfrm>
            <a:off x="6551640" y="1089000"/>
            <a:ext cx="931680" cy="1798560"/>
          </a:xfrm>
          <a:prstGeom prst="rect">
            <a:avLst/>
          </a:prstGeom>
          <a:ln w="0">
            <a:noFill/>
          </a:ln>
        </p:spPr>
      </p:pic>
      <p:pic>
        <p:nvPicPr>
          <p:cNvPr id="101" name="Obraz 15" descr=""/>
          <p:cNvPicPr/>
          <p:nvPr/>
        </p:nvPicPr>
        <p:blipFill>
          <a:blip r:embed="rId3"/>
          <a:stretch/>
        </p:blipFill>
        <p:spPr>
          <a:xfrm>
            <a:off x="1332000" y="3824280"/>
            <a:ext cx="1379520" cy="1944720"/>
          </a:xfrm>
          <a:prstGeom prst="rect">
            <a:avLst/>
          </a:prstGeom>
          <a:ln w="0">
            <a:noFill/>
          </a:ln>
        </p:spPr>
      </p:pic>
      <p:pic>
        <p:nvPicPr>
          <p:cNvPr id="102" name="Obraz 17" descr=""/>
          <p:cNvPicPr/>
          <p:nvPr/>
        </p:nvPicPr>
        <p:blipFill>
          <a:blip r:embed="rId4"/>
          <a:stretch/>
        </p:blipFill>
        <p:spPr>
          <a:xfrm>
            <a:off x="3708360" y="1628640"/>
            <a:ext cx="1727280" cy="1287720"/>
          </a:xfrm>
          <a:prstGeom prst="rect">
            <a:avLst/>
          </a:prstGeom>
          <a:ln w="0">
            <a:noFill/>
          </a:ln>
        </p:spPr>
      </p:pic>
      <p:pic>
        <p:nvPicPr>
          <p:cNvPr id="103" name="Obraz 19" descr=""/>
          <p:cNvPicPr/>
          <p:nvPr/>
        </p:nvPicPr>
        <p:blipFill>
          <a:blip r:embed="rId5"/>
          <a:stretch/>
        </p:blipFill>
        <p:spPr>
          <a:xfrm>
            <a:off x="6372360" y="4044960"/>
            <a:ext cx="1774800" cy="1724040"/>
          </a:xfrm>
          <a:prstGeom prst="rect">
            <a:avLst/>
          </a:prstGeom>
          <a:ln w="0">
            <a:noFill/>
          </a:ln>
        </p:spPr>
      </p:pic>
      <p:pic>
        <p:nvPicPr>
          <p:cNvPr id="104" name="Obraz 18" descr=""/>
          <p:cNvPicPr/>
          <p:nvPr/>
        </p:nvPicPr>
        <p:blipFill>
          <a:blip r:embed="rId6"/>
          <a:stretch/>
        </p:blipFill>
        <p:spPr>
          <a:xfrm>
            <a:off x="3770280" y="4508640"/>
            <a:ext cx="1602000" cy="1290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792000" y="3068640"/>
            <a:ext cx="270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Stop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odległość między piętą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końcem najdłuższego palca sto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71640" y="5950080"/>
            <a:ext cx="216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Łokieć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odległość od łokcia do środkowego pal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192720" y="3068640"/>
            <a:ext cx="1619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Dłoń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zerokość czterech palców ręk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81280" y="3068640"/>
            <a:ext cx="1979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Piędź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odległość między końcem kciuka i końcem środkowego pal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81280" y="5950080"/>
            <a:ext cx="1979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Kro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odległość między piętą jednej a piętą drugiej stopy podczas chodze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832360" y="5950080"/>
            <a:ext cx="2700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Sążeń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zerokość rozpostartych ramion – tą jednostkę wymierzano ścięte drzewo układane w stosy zwane sąga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Verdana"/>
              </a:rPr>
              <a:t>Podaj, jakie jednostki długości </a:t>
            </a:r>
            <a:br>
              <a:rPr sz="2400"/>
            </a:br>
            <a:r>
              <a:rPr b="1" lang="en-US" sz="2400" spc="-1" strike="noStrike">
                <a:solidFill>
                  <a:srgbClr val="cc0066"/>
                </a:solidFill>
                <a:latin typeface="Verdana"/>
              </a:rPr>
              <a:t>występują w wierszach: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92000" y="2349360"/>
            <a:ext cx="4321440" cy="31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3366ff"/>
                </a:solidFill>
                <a:latin typeface="Arial"/>
              </a:rPr>
              <a:t>Jean de La Fontaine - </a:t>
            </a:r>
            <a:r>
              <a:rPr b="0" i="1" lang="pl-PL" sz="1600" spc="-1" strike="noStrike">
                <a:solidFill>
                  <a:srgbClr val="3366ff"/>
                </a:solidFill>
                <a:latin typeface="Arial"/>
              </a:rPr>
              <a:t>Żółw i zają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Chyży, wysmukły i zwrotny zając </a:t>
            </a:r>
            <a:br>
              <a:rPr sz="1500"/>
            </a:b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Napotkał żółwia jakoś przebiegając. </a:t>
            </a:r>
            <a:br>
              <a:rPr sz="1500"/>
            </a:b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"Jak się masz, moja ty skorupo! - rzecze. - </a:t>
            </a:r>
            <a:br>
              <a:rPr sz="1500"/>
            </a:b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Gdzie to się waszmość tak pomału wlecze? </a:t>
            </a:r>
            <a:br>
              <a:rPr sz="1500"/>
            </a:b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Mój Boże! Cóż to za układ natury! </a:t>
            </a:r>
            <a:br>
              <a:rPr sz="1500"/>
            </a:b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Mnie w biegu i sam wiatr nie upędzi, </a:t>
            </a:r>
            <a:br>
              <a:rPr sz="1500"/>
            </a:b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Żółw na godzinę, w swym chodzie ponury, </a:t>
            </a:r>
            <a:br>
              <a:rPr sz="1500"/>
            </a:b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Ledwo upełznie trzy piędzi." </a:t>
            </a:r>
            <a:br>
              <a:rPr sz="1500"/>
            </a:b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"Hola! - odpowie - mój ty wiatronogi: </a:t>
            </a:r>
            <a:br>
              <a:rPr sz="1500"/>
            </a:b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Umiem ja chodzić i odbywam drogi: </a:t>
            </a:r>
            <a:br>
              <a:rPr sz="1500"/>
            </a:b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Mogę i ciebie ubiec do celu."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92720" y="1808280"/>
            <a:ext cx="2881440" cy="19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3366ff"/>
                </a:solidFill>
                <a:latin typeface="Arial"/>
              </a:rPr>
              <a:t>Maria Kryńska–Szosta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W moim ogrodzie są studni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wyschnięte na cztery sążni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ramion twych nie wystarcz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by objąć ani dosięgnąć dn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a łez by napełnić…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92720" y="4156200"/>
            <a:ext cx="3240000" cy="19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3366ff"/>
                </a:solidFill>
                <a:latin typeface="Arial"/>
              </a:rPr>
              <a:t>Vicino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 **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Na bezludnej wysiąść wyspie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Gdzie ogromny pałac stoi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W nim kominek – oczywiście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W bibliotece mnóstwo książek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A w sypialni z baldachimem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Stoi łoże na sześć łokci …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71640" y="-179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MIERZENIE ODCINKÓW</a:t>
            </a:r>
            <a:endParaRPr b="0" lang="en-US" sz="3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92000" y="728640"/>
            <a:ext cx="806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92000" y="1089000"/>
            <a:ext cx="41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Wyznaczanie długości odcinka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150920" y="1449360"/>
            <a:ext cx="7381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dcinek MN jest </a:t>
            </a:r>
            <a:r>
              <a:rPr b="0" lang="en-US" sz="1600" spc="-1" strike="noStrike">
                <a:solidFill>
                  <a:srgbClr val="3366ff"/>
                </a:solidFill>
                <a:latin typeface="Arial"/>
              </a:rPr>
              <a:t>odcinkiem jednostkowy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co zapisujemy |MN| = 1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czytamy: </a:t>
            </a:r>
            <a:r>
              <a:rPr b="0" lang="en-US" sz="1600" spc="-1" strike="noStrike">
                <a:solidFill>
                  <a:srgbClr val="3366ff"/>
                </a:solidFill>
                <a:latin typeface="Arial"/>
              </a:rPr>
              <a:t>długość odcinka MN jest równa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692360" y="2349360"/>
            <a:ext cx="2158920" cy="0"/>
          </a:xfrm>
          <a:prstGeom prst="line">
            <a:avLst/>
          </a:prstGeom>
          <a:ln w="2232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692360" y="2843280"/>
            <a:ext cx="539640" cy="0"/>
          </a:xfrm>
          <a:prstGeom prst="line">
            <a:avLst/>
          </a:prstGeom>
          <a:ln w="2232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11280" y="2168640"/>
            <a:ext cx="539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11280" y="2341440"/>
            <a:ext cx="5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672000" y="2349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11280" y="28828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097000" y="2889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150920" y="3338640"/>
            <a:ext cx="756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ysujemy prostą a, po czym odkładamy na niej odcinek MN za pomocą cyrk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150920" y="5950080"/>
            <a:ext cx="738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352000" y="558972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 rot="2464200">
            <a:off x="926640" y="4059360"/>
            <a:ext cx="1906560" cy="19065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 rot="2464200">
            <a:off x="1510920" y="4059360"/>
            <a:ext cx="1906560" cy="19065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 rot="2464200">
            <a:off x="2096640" y="4059360"/>
            <a:ext cx="1906560" cy="19065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 rot="2464200">
            <a:off x="2680920" y="4059360"/>
            <a:ext cx="1906560" cy="1906560"/>
          </a:xfrm>
          <a:prstGeom prst="rect">
            <a:avLst/>
          </a:prstGeom>
          <a:ln w="0">
            <a:noFill/>
          </a:ln>
        </p:spPr>
      </p:pic>
      <p:grpSp>
        <p:nvGrpSpPr>
          <p:cNvPr id="133" name=""/>
          <p:cNvGrpSpPr/>
          <p:nvPr/>
        </p:nvGrpSpPr>
        <p:grpSpPr>
          <a:xfrm>
            <a:off x="1422360" y="5950080"/>
            <a:ext cx="2656080" cy="368280"/>
            <a:chOff x="1422360" y="5950080"/>
            <a:chExt cx="2656080" cy="368280"/>
          </a:xfrm>
        </p:grpSpPr>
        <p:sp>
          <p:nvSpPr>
            <p:cNvPr id="134" name=""/>
            <p:cNvSpPr/>
            <p:nvPr/>
          </p:nvSpPr>
          <p:spPr>
            <a:xfrm>
              <a:off x="1422360" y="5950080"/>
              <a:ext cx="314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762360" y="5950080"/>
              <a:ext cx="31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5021280" y="4194000"/>
            <a:ext cx="3222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ff"/>
                </a:solidFill>
                <a:latin typeface="Arial"/>
              </a:rPr>
              <a:t>Odcinek MN mieści się 4 razy w odcinku KL, zatem długość odcinka KL równa się 4, co zapisujemy |KL| =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9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9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4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9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4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8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971640" y="-179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MIERZENIE ODCINKÓ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92000" y="728640"/>
            <a:ext cx="806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Obraz 24" descr=""/>
          <p:cNvPicPr/>
          <p:nvPr/>
        </p:nvPicPr>
        <p:blipFill>
          <a:blip r:embed="rId1"/>
          <a:srcRect l="1585" t="6590" r="1303" b="8112"/>
          <a:stretch/>
        </p:blipFill>
        <p:spPr>
          <a:xfrm>
            <a:off x="1476360" y="3500280"/>
            <a:ext cx="7056360" cy="1516320"/>
          </a:xfrm>
          <a:prstGeom prst="rect">
            <a:avLst/>
          </a:prstGeom>
          <a:ln w="0">
            <a:noFill/>
          </a:ln>
        </p:spPr>
      </p:pic>
      <p:pic>
        <p:nvPicPr>
          <p:cNvPr id="140" name="Obraz 24" descr=""/>
          <p:cNvPicPr/>
          <p:nvPr/>
        </p:nvPicPr>
        <p:blipFill>
          <a:blip r:embed="rId2"/>
          <a:srcRect l="1585" t="6590" r="1303" b="8112"/>
          <a:stretch/>
        </p:blipFill>
        <p:spPr>
          <a:xfrm>
            <a:off x="1476360" y="1268280"/>
            <a:ext cx="7059600" cy="15163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692360" y="3573360"/>
            <a:ext cx="395928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547640" y="3284640"/>
            <a:ext cx="40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508720" y="3284640"/>
            <a:ext cx="26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835280" y="5157720"/>
            <a:ext cx="676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ff"/>
                </a:solidFill>
                <a:latin typeface="Arial"/>
              </a:rPr>
              <a:t>Długość odcinka AB równa się 12 cm, co zapisujemy |AB| = 12 c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 rot="2464200">
            <a:off x="6556320" y="2285640"/>
            <a:ext cx="2587680" cy="25876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971640" y="-142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MIERZENIE ODCINKÓ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26920" y="765000"/>
            <a:ext cx="806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63720" y="1263600"/>
            <a:ext cx="765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dmierzanie długości odcinka za pomocą cyrkla i linijk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25520" y="1805040"/>
            <a:ext cx="652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any jest odcinek KL. Odmierzamy jego długość za pomocą cyrkla i przykładamy do linij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Obraz 24" descr=""/>
          <p:cNvPicPr/>
          <p:nvPr/>
        </p:nvPicPr>
        <p:blipFill>
          <a:blip r:embed="rId2"/>
          <a:srcRect l="1585" t="6590" r="1303" b="8112"/>
          <a:stretch/>
        </p:blipFill>
        <p:spPr>
          <a:xfrm>
            <a:off x="2166840" y="5353200"/>
            <a:ext cx="5591160" cy="12016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7458120" y="4871880"/>
            <a:ext cx="780840" cy="0"/>
          </a:xfrm>
          <a:prstGeom prst="line">
            <a:avLst/>
          </a:prstGeom>
          <a:ln w="2232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157880" y="4932360"/>
            <a:ext cx="162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KL| = 3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9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9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9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9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7.77778E-006 4.07407E-006 L -0.55886 0.07893 E">
                                      <p:cBhvr>
                                        <p:cTn id="106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2050920" y="1557360"/>
            <a:ext cx="583416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66ff"/>
                </a:solidFill>
                <a:uFillTx/>
                <a:latin typeface="Verdana"/>
              </a:rPr>
              <a:t>Ćwiczenie: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arysuj dowolny odcinek. Obierz odcinek jednostkowy i zmierz długość odcinka za pomocą cyrkla i linijk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97164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JEDNOSTKI DŁUGOŚCI </a:t>
            </a:r>
            <a:br>
              <a:rPr sz="3000"/>
            </a:b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UŻYWANE NAJCZĘŚCIEJ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826920" y="1123920"/>
            <a:ext cx="806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916360" y="1989000"/>
            <a:ext cx="417672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3366ff"/>
                </a:solidFill>
                <a:latin typeface="Arial"/>
              </a:rPr>
              <a:t>1 milimetr – 1 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3366ff"/>
                </a:solidFill>
                <a:latin typeface="Arial"/>
              </a:rPr>
              <a:t>1 centymetr – 1 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3366ff"/>
                </a:solidFill>
                <a:latin typeface="Arial"/>
              </a:rPr>
              <a:t>1 decymetr – 1 d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3366ff"/>
                </a:solidFill>
                <a:latin typeface="Arial"/>
              </a:rPr>
              <a:t>1 metr – 1 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3366ff"/>
                </a:solidFill>
                <a:latin typeface="Arial"/>
              </a:rPr>
              <a:t>1 kilometr – 1 k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97164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ZALEŻNOŚCI MIĘDZY JEDNOSTKAMI DŁUGOŚC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826920" y="1123920"/>
            <a:ext cx="806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971640" y="2060640"/>
            <a:ext cx="756108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3366ff"/>
                </a:solidFill>
                <a:latin typeface="Arial"/>
              </a:rPr>
              <a:t>1 cm = 10 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3366ff"/>
                </a:solidFill>
                <a:latin typeface="Arial"/>
              </a:rPr>
              <a:t>1 dm = 10 cm = 100 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3366ff"/>
                </a:solidFill>
                <a:latin typeface="Arial"/>
              </a:rPr>
              <a:t>1 m = 10 dm = 100 cm = 1 000 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3366ff"/>
                </a:solidFill>
                <a:latin typeface="Arial"/>
              </a:rPr>
              <a:t>1 km = 1 000 m = 10 000 dm = 100 000 cm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3366ff"/>
                </a:solidFill>
                <a:latin typeface="Arial"/>
              </a:rPr>
              <a:t>         </a:t>
            </a:r>
            <a:r>
              <a:rPr b="1" lang="pl-PL" sz="2800" spc="-1" strike="noStrike">
                <a:solidFill>
                  <a:srgbClr val="3366ff"/>
                </a:solidFill>
                <a:latin typeface="Arial"/>
              </a:rPr>
              <a:t>= 1 000 000 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1T10:36:11Z</dcterms:created>
  <dc:creator>Darek</dc:creator>
  <dc:description/>
  <dc:language>en-US</dc:language>
  <cp:lastModifiedBy>Darek</cp:lastModifiedBy>
  <dcterms:modified xsi:type="dcterms:W3CDTF">2013-08-17T20:50:27Z</dcterms:modified>
  <cp:revision>15</cp:revision>
  <dc:subject/>
  <dc:title>Slajd 1</dc:title>
</cp:coreProperties>
</file>